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shiphorn.wav" ContentType="audio/x-wav"/>
  <Override PartName="/ppt/media/zipdn102.wav" ContentType="audio/x-wav"/>
  <Override PartName="/ppt/media/image2.gif" ContentType="image/gif"/>
  <Override PartName="/ppt/media/bserie06.wav" ContentType="audio/x-wav"/>
  <Override PartName="/ppt/media/jetflyby2.wav" ContentType="audio/x-wav"/>
  <Override PartName="/ppt/media/meepmeep.wav" ContentType="audio/x-wav"/>
  <Override PartName="/ppt/media/image1.gif" ContentType="image/gif"/>
  <Override PartName="/ppt/media/highchime.wav" ContentType="audio/x-wav"/>
  <Override PartName="/ppt/media/image3.gif" ContentType="image/gif"/>
  <Override PartName="/ppt/media/image4.gif" ContentType="image/gif"/>
  <Override PartName="/ppt/media/image5.gif" ContentType="image/gif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0BB-97F0-4A47-8202-93068179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F66-D24A-4795-8783-445C3814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23F-5C1A-4253-A3C0-2CB71D6D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6EF-8BBA-4F4C-9363-D3301331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CB3-8432-46ED-86D7-5998CB8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E5F-5B02-49B5-B5D1-0F8284C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CAE-66FE-4E17-837F-87C8D00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435-B45F-403F-A38C-7C8C26B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BE9-89B4-45E5-BE92-82AB8F2C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8B9-1870-4748-BC07-F0DC6CF6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6E1-BDFD-4EF8-A17E-98C8CEE8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031-4517-4487-9A02-3BF711F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DCC-3BD0-4A5B-B394-5C2703087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hiphorn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how the calculator keystroke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65120" y="1427040"/>
                <a:ext cx="50338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61920" y="2395440"/>
                <a:ext cx="92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05160" y="3556080"/>
                <a:ext cx="62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933560" y="24382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71920" y="2414520"/>
                <a:ext cx="566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317760" y="24447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962520" y="2395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570560" y="243828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97320" y="2409840"/>
                <a:ext cx="516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5729400" y="243036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how the calculator keystroke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27000" y="1357200"/>
                <a:ext cx="37339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19040" y="2408400"/>
                <a:ext cx="516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95720" y="3484440"/>
                <a:ext cx="9604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933560" y="24382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2360" y="24447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164040" y="2395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656160" y="245268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216320" y="2421000"/>
                <a:ext cx="8254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700600" y="24591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7760" y="246060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581880" y="789120"/>
            <a:ext cx="2562120" cy="333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41400" y="3968640"/>
                <a:ext cx="962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766880" y="3817800"/>
                <a:ext cx="113040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973240" y="4402080"/>
                <a:ext cx="15829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03040" y="1262160"/>
            <a:ext cx="690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A manufacturer shipped 72 mugs separated into 3 cases. There are 24 mugs in each ca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0200" y="2924280"/>
                <a:ext cx="961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81360" y="2930400"/>
                <a:ext cx="1130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02040" y="2922480"/>
                <a:ext cx="1640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03040" y="1262160"/>
            <a:ext cx="89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47 students went to a game. 39 went on a bus. 8 went in 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800520"/>
            <a:ext cx="3333600" cy="30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543640" y="4340160"/>
            <a:ext cx="360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94520" y="2948040"/>
            <a:ext cx="2949480" cy="390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36720" y="2849400"/>
                <a:ext cx="622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Write an equation for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278160" y="2843280"/>
                <a:ext cx="1355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27440" y="2836800"/>
                <a:ext cx="1582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03040" y="1262160"/>
            <a:ext cx="894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Chris is 28. He is twice as old as his cousin. His cousin is 14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38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1, 2 – 9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3, 2 – 10 #1-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5/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02T17:12:40Z</dcterms:modified>
  <cp:revision>70</cp:revision>
  <dc:subject/>
  <dc:title>Slide 1</dc:title>
</cp:coreProperties>
</file>